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1EDB-9415-43A7-9570-2502BAE5D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5B6B-1A42-4B74-9DCE-5479932B3F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8D0D-9784-43CC-B08F-CE32C010DA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29AB-792D-4CC3-A94B-4608383C39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BB89-47EC-4E2E-9D07-B8A7BE5C71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B589-89A0-4CC7-BFAE-5A27A35EBE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CF4D-E5B2-45D9-A5C9-028D32AEEF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E0AA-17B6-4594-BC5B-0F61E33E4B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6893-B31C-460E-BBEE-0D1C8C2D8A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05D-A06F-48BF-8C77-44B36508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7FF-8441-414B-A0DC-1B0C62FD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D29-300A-4823-8905-8693B89B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7E4-16FE-4145-8A3D-9E22ACD6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46D-098F-40F7-BE0A-D47B5423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C1C-6142-4946-A25C-55AB79E9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0D6-2BF4-42E4-A53A-6774FFFF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129-3393-450C-BCC1-E8FCD3AB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CE3-6B01-4FFB-A494-3CDE096E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0D4-3125-4A67-B2E1-6715396B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01C-EA9C-424A-95DA-DB68AA9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018-D483-418B-88C8-219BCD6F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4704-59F5-4428-8700-17D946F4308B}" type="slidenum">
              <a:rPr b="0" lang="en-US" sz="1200" spc="-1" strike="noStrike">
                <a:solidFill>
                  <a:srgbClr val="bcbcb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y favorite subject Is P.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2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3657600" y="2676600"/>
            <a:ext cx="1828800" cy="1504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y favorite book is a Magic Tree House  book. It is called Summer of the Sea Serpent.Its author is Mary Pope Osbor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5" name="Picture 4" descr="C:\Program Files\Microsoft Office\MEDIA\CAGCAT10\j0217698.wmf"/>
          <p:cNvPicPr/>
          <p:nvPr/>
        </p:nvPicPr>
        <p:blipFill>
          <a:blip r:embed="rId2"/>
          <a:stretch/>
        </p:blipFill>
        <p:spPr>
          <a:xfrm>
            <a:off x="3962520" y="4495680"/>
            <a:ext cx="1747800" cy="1694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y favorite place is Bush Gardens it is in Virginia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y favorite food Is garlic breadsticks and salad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 famous person I would like to meet is Amelia Earhart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afraid of shark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nt to be a veterinarian when I grow up. Plus to help stray animal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6:43Z</dcterms:created>
  <dc:creator> pc#3</dc:creator>
  <dc:description/>
  <dc:language>en-US</dc:language>
  <cp:lastModifiedBy> pc#3</cp:lastModifiedBy>
  <dcterms:modified xsi:type="dcterms:W3CDTF">2009-11-12T20:15:45Z</dcterms:modified>
  <cp:revision>7</cp:revision>
  <dc:subject/>
  <dc:title>Who am i</dc:title>
</cp:coreProperties>
</file>